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2C7-BB9B-45D2-9651-45B7FB5B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C1D-2759-4632-9DFE-5540A941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DB7-114A-4B31-8FE7-ACD924A6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73B-AF07-4A46-B5C4-E99EB2DB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95AD-EAAC-46F4-9D11-D7299991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F38-D029-495A-9830-23D2B24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567E-91B4-4305-A582-58ACC7A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D645-8A2B-41B0-A57B-8BE94D57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B7B1-CF10-43AE-B7A5-7710BA1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585-6522-4CB3-851D-0D143AD4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15EA-3AFF-4C84-B4AC-1D8EB7FE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EC4-0152-4F8A-B11E-A4A95DA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0F03-95B7-4950-A8AD-A3AE506F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5192-BFDC-4975-95BA-3234030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25D1-8463-45A2-B7CD-D46332F7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67D-FF44-4027-9195-EDA6F11A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713A-8FC1-4B3E-AF3B-8226BBF3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18E-71CD-43E2-8483-B3A5642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FD7-5A5E-46A1-B2DC-73E3D276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653-2638-4063-B81B-49C801E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B17-BF9D-4258-9F53-8FE8C46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53D-92A6-4045-B793-D17647E5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5EE-6CE7-42D1-89A2-9236688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D50-6C5E-40EA-ACB9-45F2F38A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AB62-9A87-4BE1-BA4B-ABCDC79F18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6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38" name="Rectangle 40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69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136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13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168" name="Rectangle 40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43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49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50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52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53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4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55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6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57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58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59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0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1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2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63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4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65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66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67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8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9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199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230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231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262" name="Rectangle 134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35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6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37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38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39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40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41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42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44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45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46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47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48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49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50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51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52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3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54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55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56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57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58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59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60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61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2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63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293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BB94-5E9A-4C27-AC7D-1E4F365D16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ycle.wikispaces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inyurl.com/6d2hfko" TargetMode="External"/><Relationship Id="rId2" Type="http://schemas.openxmlformats.org/officeDocument/2006/relationships/hyperlink" Target="http://tinyurl.com/6d2hfko" TargetMode="External"/><Relationship Id="rId3" Type="http://schemas.openxmlformats.org/officeDocument/2006/relationships/hyperlink" Target="http://getreal.wikispaces.com/Book+Trailers" TargetMode="External"/><Relationship Id="rId4" Type="http://schemas.openxmlformats.org/officeDocument/2006/relationships/hyperlink" Target="http://getreal.wikispaces.com/Book+Trailers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19200" y="1905120"/>
            <a:ext cx="780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taycle.wikispaces.co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0" y="838080"/>
            <a:ext cx="9193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nowled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7. List new words that you learned reading this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down their dictionary pronunciation and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. When did the story take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.Where did the story take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. What is the title, author, publisher, illustrator, gen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1. List other books the author has writ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304920" y="15238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ays of Publishing Book Trail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Publish them to a wiki (wikispac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Burn them to a DV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Put them on a central compu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0" y="25909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ints to consi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 with a “hook” for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ve a time minimum and max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 the mood of the book by the reflection of your v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t text before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457200" y="2743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o persuade your listeners to read your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with a cliff h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n the book cover and use it in the book trailer so that students can easily find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loom’s taxonomy Book Review Questions: http://theliterarylink.com/bloom_questions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eric Literatur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ttp://tinyurl.com/bookreport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abriola"/>
              </a:rPr>
              <a:t>A book trailer is a movie trailer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Gabriola"/>
              </a:rPr>
              <a:t>book review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Movie Maker      *Blabberiz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Photo Story         *Goanimat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Glogster             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J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Prezi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Flipsh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PowerPoint         *Animat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99"/>
          <p:cNvSpPr/>
          <p:nvPr/>
        </p:nvSpPr>
        <p:spPr>
          <a:xfrm>
            <a:off x="0" y="2514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briola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abriola"/>
              </a:rPr>
              <a:t>Gabri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1"/>
              </a:rPr>
              <a:t>http:/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2"/>
              </a:rPr>
              <a:t>tinyurl.com/6d2hf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abriola"/>
              </a:rPr>
              <a:t>Kids.yahoo.com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3"/>
              </a:rPr>
              <a:t>http://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4"/>
              </a:rPr>
              <a:t>getreal.wikispaces.com/Book+Trai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abriola"/>
              </a:rPr>
              <a:t>Book Trailers for R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briola"/>
              </a:rPr>
              <a:t>http://www.booktrailersforreader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-329400" y="1219320"/>
            <a:ext cx="1005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read a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then answer a list of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Students use a storyboard to organiz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ir book trail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hey then create a movie trail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0" y="27432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Eval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Who do you think the author intended to read this book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What was the author’s purpose in writing the book? What was his mess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s the title a good one or a poor one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id you like the way the story ended? Without explaining the ending, expand on why or why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Which character in the book could you most identify with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. What did you think was the most interesting part of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. Was the main character good or bad? Support your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. Pick your favorite quote of the book. Explain what the quote mean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0" y="91440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. Did this book remind you of anything that has happened to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. Did this book give you any new ideas about yours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1.What lessons did you learn from this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22860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REHENS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2. What was the problem in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3. Did anyone in the book do something you did not 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4. Tell in your own words the beginn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5. Draw a new book cover that represents the 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6. Make a map showing the sett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45:45Z</dcterms:created>
  <dc:creator>Ellen Finkelstein</dc:creator>
  <dc:description/>
  <dc:language>en-US</dc:language>
  <cp:lastModifiedBy>staycle</cp:lastModifiedBy>
  <dcterms:modified xsi:type="dcterms:W3CDTF">2011-07-05T14:26:50Z</dcterms:modified>
  <cp:revision>37</cp:revision>
  <dc:subject/>
  <dc:title>The Library</dc:title>
</cp:coreProperties>
</file>